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97B-EA05-4826-AB5F-D72688C3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499-EB16-4F44-91CB-5EB7E3D2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91226-C80F-4F89-88D7-74448845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28F72-3543-4434-B929-5BEBC02F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C3F00-56E5-4C8E-90AB-4B67D426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44FD9-A400-4C70-930C-CBFF6622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5BF38-78E2-4EEA-BFDC-7253DD8F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6C7A9-FFF8-4392-A70E-35D7F001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4EFB5-CC3A-44B5-B415-03992B47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AADC5-6B3A-4F22-804C-EA623D81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824D1-CF4E-4CC8-8E83-A1D8B23E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D7B04-AEAE-4E38-89AB-4316164E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BC7-1CEB-4F2A-85A7-C9988BD1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7F201-937E-46BC-86D2-E3389834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F7D74-1DAA-4DEA-BF9A-BDC445D1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52FFA-146B-4290-956F-9DC0F092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8718C-CB87-44AF-9AFA-6FD2E209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F8797-B307-4D54-A878-F9EEBC50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74474-7DA0-4058-829C-37CC2207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DD817-8078-455E-83D2-713E2DE1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B8612-5327-4735-BC15-5FCCC18D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F44C9-A2D0-4DD9-B8F9-E21632FB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9EBAB-B39D-45B0-A1D9-37A9A39A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C80-44ED-4AD2-AC8F-7F977296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67AF6-0521-42D7-B3CE-A72132E6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D0FA4-5A4C-4187-8A4E-2A266589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182BA-89A5-43D2-ADC2-7E5891FD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97A89-F930-4DE6-B2DF-1071922A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93341-6023-40F9-9A28-3B4DAD49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85E04-239F-4780-8A8C-E1F5AFF1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90835-448E-42AE-BD0C-95A1AD2A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FF098-7C25-40E9-B6F8-6A3DD5AF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AC3AF-DA40-49F0-AC92-D7A2A2EF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5845E-8C35-4B52-AAC0-1DB414AD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AC08-D3FE-4BDF-B1D6-A0FFE3FB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2ACDA-42CC-4E6B-AE1B-FACA72F3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964A2-E05A-4653-89DE-59B0D06C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F9B3B-DE15-4B76-8722-602930B4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1A192-0BB9-485B-ACCD-FB4AEBB2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8F854-EA04-44EC-8678-233757C5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E8F6D-C8DB-4D4E-8223-E4EF2108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8DEBF-9777-4450-9F2C-41835C6D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74967-8E1D-4F6C-8788-57E37135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8C14C-3EF3-41F2-B724-2D7DF2A0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BAFF2-4127-4DD8-8985-C6B91526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DF3C-C740-449C-AAF0-8F01B501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968CC-78ED-471D-BFCA-5AD9A93E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5B293-ED33-4DA2-8C6F-5B0DF84C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D25E9-D734-4270-8F51-94AD7594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A3043-3BA9-430D-B49F-1B7EF072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41BDF-30B5-42D4-8C70-63D65D51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61008-CD6F-431F-A73B-2A7A6850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8EAFA-DE35-45E8-BA27-78704452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F8B8B-43C1-4A39-AA54-A5C87972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39CC8-D564-4727-86F3-9AB366B0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ADB96-C44D-4CB2-8912-368D3709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70A2-1390-43F9-9ADC-1E441CC4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2642C-4697-473F-9E29-D1B8A2CC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FB13D-122F-4934-8F60-F356F199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AF637-76A3-4017-839C-5F5F8380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5AB34-A5FF-445F-87CC-86E74C7E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EFDFC-392C-4D3D-B75D-850F55F6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45198-0018-487E-9244-31EE6CC5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A72E1-126D-4937-B2E4-48A29314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DA51E-8D46-4217-8BF4-190BE149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0B2C5-6C36-4954-AFFA-DB535F5D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B9928-2AD5-4DA2-BA0B-6D8BC6EE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38C8-0128-4DD9-8621-1140D876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B0F09-25F3-479C-8257-3FF0EBC1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F52D4-256E-4E68-B488-2CFC135A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09FAEA-FE09-4684-84E6-6AE1C38A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D2D94-5C10-46FF-90B2-B3FDE403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19FE5-3A54-4951-B909-0B326A08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D10B0-E90E-4317-9785-EF10F917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1F8CC-AA75-4DD5-A294-688A0E05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C4C6D-D57C-4854-8865-C5A602C1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E7556-D747-4D68-AB33-E2DDAD16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B4E5C-50DB-412E-BDEB-FF280BA8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2587-184C-4E39-A14B-4DD7342D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F513F-AA84-4993-BBF8-00A0B59A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43237-E362-48E6-B12B-24D9892F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E8DBA2-8013-470B-A5AB-610FFD39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EC146-A66E-4A65-8CC4-69394EAB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6CF4F-CED6-48DA-B29B-BD73BE45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E3495-3D7A-4B7D-AB0E-0EAF1203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FCC9E-904E-416C-A67C-FA7AB386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BB911-C09D-4995-8B64-3E0CC767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F6402-E686-4045-B0A3-9ADC811A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D5EA4-0D1C-4226-8E86-C739AB75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F06A-0358-4D6A-B99A-8A78E756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77013-AEBB-4531-8BB6-621C6486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BE65C1-4F15-43C4-B224-0619FD19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DD92F-24EB-4651-9A26-77612866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AAD1D-AF0A-4485-AC45-7CB56B8F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E5BA7-42C6-43F2-8878-99DDE30F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05211D-91C6-4A49-8BE7-3EA79EF5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2469C-E755-4B38-9B64-CCD43116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9D4B8-A027-49C8-8900-27797B79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0E7757-002E-4732-9791-7DBBBDD3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0EC88C-9180-426B-8463-DC2A257A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64AD-4610-47AA-B59A-13859D21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F2AF2C-F800-4C27-A901-C7E066BD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2EFA8-6DA5-4B48-A09E-FAA5E23F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92FB9-AC50-477A-BE3B-4973B647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61D0A5-6C3C-4B78-A689-48E54284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0062E-8D2A-42BD-A405-26F52306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D8B5D-7FF6-4A93-9105-83AC10A0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0A243-44C8-4EC9-8E4B-619220C8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3F927F-688E-46D3-873E-0BFF33E4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B7A57-BCBA-4ABE-B7E3-A9F96475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AEC062-8FB8-4B3C-80FC-BDEC4590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940-4677-4445-80BF-E801E981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0B2E-5A7D-4BD9-B30B-E7AD182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4F6F7B-EA2B-4F4A-B607-41E8CE0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03DFD-693E-484E-90D0-5E336179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2613E-9A66-462E-998C-C6489096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66BE3-0811-4D84-9A85-7A052DC0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AC8BC-7E72-4FF9-8723-EB194D4B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158D9E-C9FB-4A3A-A248-AD560807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FD417-8C89-4E6B-82C6-216F469F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F60368-5D65-46E4-9CA7-255099D7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79D004-F3B4-4B81-8C27-546EF9CF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DE3ABE-2996-4976-83D9-C7274551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770D-D86F-4F7C-AD9D-2466CAD0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08382B-6D01-4E70-919F-560C937E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6BA79-C3EE-4C02-9B31-B8C01C7C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CEEA8A-7BD6-4C06-929D-DD4016F7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B51006-3B91-4EC5-A7F4-74C3B76D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1E360C-DA9C-4679-A2B3-376A4A9D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D7620-6D1C-49D0-B3BD-80C56CD5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BED17F-41CF-413F-9A94-B7B31509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A9ACB8-B781-4E65-9522-F0C04BB4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D8CB0-684C-47A6-BAD5-89B540A0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D9405-DD7F-4202-A43E-A31D3623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221E-8372-4E35-A100-46CA1777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4F7B55-4A0E-46B4-8F33-70C616C3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719CCE-25C9-4BBC-BEA3-CFBA060D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FBD54D-F94A-46EB-9EDE-8D2918BF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A09D01-4E14-4B00-9F81-21D3305D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EB107E-CE8F-48BF-9F09-21467BEA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5CAAFC-ABF3-4476-98F6-AC424C93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7A3FEA-2E9D-4AD0-A079-9B026ED0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1C3A2-89EC-4FCD-826C-74A572DC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81C53-9E8A-4247-BBE5-A301F021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E9B14-2043-4EBB-81D1-4D7C46A9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9F4B-6386-4D70-91C8-D8428349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BB2144-33F5-4D2A-9A98-221D7704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56B752-5A31-44A3-9C22-24402783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C2362A-CEBA-4B62-A4A2-77290727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CC578-F216-4A50-B836-CA113CE1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E348D0-2058-4DB2-A39F-C9CC5A8D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8B5C58-5F8E-400A-8E09-3A44B6A9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740EB-68A5-411F-9EDD-547E0CBD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C04A6-2510-4B42-8262-2B18980A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E77E3A-48BA-4F07-AF1D-BDD3CFC5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09A3D4-DDB9-494C-B4BB-CC775B55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0B2F-29DC-4AC4-92B0-AF27D2E8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F5C188-A63B-4920-B24D-400E268C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40D087-7DAD-474A-84F3-CED5996A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E1EDB6-B0EA-4BB9-86B3-966E9F1B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6809C7-A3BC-4804-848B-A62C3BE0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51D808-E574-4CB9-8BB3-36952E80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727E50-C19C-41A1-BD3E-4DE4BD49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0F57CE-7DB0-48CA-ADC0-C58C277B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E5D3E6-0B84-4C8C-B1E1-10E8D5DF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03D174-7B71-4E78-9FEB-4091B4D2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67D24E-F15A-403F-98C9-30909CA6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DAC41-10D9-4504-9B2F-F74DB125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22CC5E-D1EB-4096-A9D0-1C813168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4A4537-E2CD-4AAC-A567-F33E5B1C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83251D-70BF-4105-AA16-B82E02AA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1504-457E-46BE-8AE8-41AEF8CE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626C-AA6C-4507-AC78-81930536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C2AF3-AFE4-4562-8649-0F5842C2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7CD7E-4226-4B32-945D-6FE626B3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D24-ED9E-477D-B6F3-A11AD1D3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D8B57-8035-4865-9C3C-42C2DC81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A7B6-237D-46D3-B399-080ACB9A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17CD3-3824-4611-B6F6-E2B4BEC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EF4A-14CC-4075-9213-99CEA929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E3D93-08D2-4D70-838D-E6CE6481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4673-21B1-405C-81A4-C6D21488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11BC-A484-4785-8C71-0ECDEC8E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3788-1BA3-4573-833C-D989FC33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E572E-3987-470D-80AA-7A74E542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108F-375D-46F2-887D-D703828F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1F8-7966-44E4-AA0C-AD5EF62C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A8DB2-E872-4789-917C-21FC2683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80A54-0DD1-4F40-918B-1698295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1BD0C-530F-41C0-9B57-E8E918E0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4BAE-3A2F-4DA3-88A5-0C39EA5A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81EBC-6347-4FC0-8D87-A8D9FDDB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3E8AB-13D6-41E9-BDC8-2B03B789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29224-E862-43AB-8733-50BCFAE2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5D44-CA34-4F2F-B6C6-CF59C6D6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2D8C6-6B7E-4D6F-AEBD-7FC2A546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EDDFE-AB64-42D2-9BC9-CEF6D9CC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F03-DC47-4520-9D9B-8FEE7476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71261-CAD6-4B3F-98BD-BC861159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6BD11-D492-42F9-A3DB-07652FB1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BFFBE-3781-44BC-92E7-08A0FD30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842E-BD6A-4C7A-94DD-B5956BB2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6CC9C-5E0B-4646-B583-2557DCA1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AE6E4-B5E5-48BD-B854-22DB9CA9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99FD0-C1CA-4972-BCF7-8320B18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0B13-4F9D-4002-96BD-4C940D8C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F03A-13C5-4F2C-B2C1-04D55A8F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E1D4C-105E-4216-BFD9-FFFD2F7F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E0D-FF1B-4A0F-A1F9-8937EE12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4799C-AEBE-4EEB-8C96-1E8D0D5F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6C58D-A278-48D3-9860-07BCCEE8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DEFB3-A721-4B4F-BCD2-804677EC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BAFC8-9858-4760-8462-1582A45A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4FDAD-92E7-4361-ABAE-D4B05412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4CF02-3AFC-4BCD-818A-5EF562AD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0796A-01B6-434A-9788-86037E5F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A8BF9-99CF-40CD-BE72-A9484B85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2F4D6-447A-4832-BE6B-78A8CBB7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78D6D-FC0D-4866-B039-CD8512F6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F5E-C176-4CD6-88D8-17FF59F2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2EF41-C01B-46E2-9D35-D4DF4EEB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DA5F4-C6E4-45D6-BC55-4CC6E5CE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DB70A-F3C2-480D-B52D-6AB37862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FA11E-6AEE-46D9-A067-162BF7AF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D984B-6E0A-44F0-B3DF-3FAD5DF9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D6247-73EC-4482-BAB6-8CD081B1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F2B54-D4AA-40FF-BCB5-0ACA4D51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920E9-BEC1-4E68-B633-C60B767B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D61D7-912B-4A48-8FE5-EFBB40BF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0DC2E-B741-40A7-AB24-C529A9A4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A6E-483F-430C-9BC5-E2043694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DD9C1-A8F6-4C5B-9DA8-FD4F32A4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7F2B1-C457-4396-ADF5-C19E5DCE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74483-22FD-4F7E-BE6B-BA434AF0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88B89-CD7E-481B-AC15-F369B9AE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EA4D8-7622-47F8-80B8-2FB6459D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4314C-B671-47BD-99FA-9EA009B2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7C2AE-3ECF-4327-8260-CA1B36DD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496BB-D5FE-44A8-9B8E-4283BAB5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45255-A22C-4D4D-8660-45AA5FF3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B52C8-5142-4E59-89AE-77094634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D78-2711-47EA-945E-612F695C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415A8-9A10-4EE7-86BA-77831356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2CBEB-1F47-48E9-95DB-721E31CB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52B82-A0E4-4096-87C1-73CC014A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2D0D8-0DE8-44BC-BF81-74E3C0AD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44608-8CFB-4C06-B4FB-D39152B5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E2B03-14A3-42C9-9C79-013F8804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4B886-35BD-4C00-AEEA-6327E76A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68BFD-E335-4EDA-AB03-63B76312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63607-9267-4888-AB2D-0726931F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392DC-3D40-4D04-A041-423B8D5F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6658-4317-444A-A538-25AAEDD3A3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5A22-39C8-4078-A536-5518B336D0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EF47-474A-40DE-B541-047C785829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8147-3034-41FE-B436-715F14C285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276F-A55E-4BF4-96AA-68B1300BDA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0796-062C-4172-9F9B-9E9293C6C4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4446-DF87-4FE1-B47C-FF00A4A64D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F2E4-D9EF-4AD9-97DD-B1AB114A34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EDCB-8726-47C1-8B5A-25DE0AF6B3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7D08-9147-4036-A213-1D19F19E51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6BC4-3FF9-4CE9-9EFC-685C963DD1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D039-936A-4A37-B28B-7EBAA1AE87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9308-299F-4205-AE2E-1AA2AC5A34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C79B-DEC7-4F3E-947F-1BED8F4B1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02B8-273B-4771-97CD-52BBEFC9AA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75B1-3AD9-4024-A1FC-BC7B63DB35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323A-D794-4256-8351-6CCE9AB37C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F1FF-446A-4777-A1A0-1350CD65E5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74E1-5D4F-4D02-B7B6-5F30B8803E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695E-C123-49A1-AC9D-3542CCC880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C8EB-4065-419D-A61B-A57209A71C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E1C3-6371-49F6-9670-5787CC9F01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8B72-B047-430B-8C05-CA7E23075A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2C55-A8A6-41B2-9D38-11CC48088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B87D-1AD4-489D-B62F-80333DE2FA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11C4-56A0-4285-8010-A213AA500F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8F9A-8853-4EA1-A893-8C88D0363F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9865-BD5E-4DB2-BD33-CE8A821062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47DC-9395-4982-B808-1475210E8F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1AD2-7675-463D-A3D8-4CC805363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F1C0-447E-4CB8-BA4D-DB5EB06AA2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1AC7-7C25-4688-8405-9F54BB8D19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6D58-6650-4CCD-B6D7-C375F8C562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4578-00B7-4339-8D2F-09FBA850A3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EE43-5006-4DBA-8007-0BBB856C1A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2292-D34A-4BAD-BCD7-45BC79A394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F2AF-4207-42D2-BCB2-E99088B740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CDA1-736D-4DE2-84B1-BB02B5404D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3A32-56ED-4DED-99BD-8962A069E7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BC75-8A7A-47C5-9599-1F21C59E35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243240" y="1989000"/>
            <a:ext cx="2657520" cy="8575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395360" y="3598920"/>
            <a:ext cx="6353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69633" descr=""/>
          <p:cNvPicPr/>
          <p:nvPr/>
        </p:nvPicPr>
        <p:blipFill>
          <a:blip r:embed="rId1"/>
          <a:stretch/>
        </p:blipFill>
        <p:spPr>
          <a:xfrm>
            <a:off x="438120" y="1609560"/>
            <a:ext cx="8267760" cy="36388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2808360" cy="16556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468360" y="3976560"/>
            <a:ext cx="3816360" cy="5130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395280" y="4595760"/>
            <a:ext cx="3816360" cy="5126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5"/>
          <a:stretch/>
        </p:blipFill>
        <p:spPr>
          <a:xfrm>
            <a:off x="5148360" y="2219400"/>
            <a:ext cx="2808360" cy="16556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6"/>
          <a:stretch/>
        </p:blipFill>
        <p:spPr>
          <a:xfrm>
            <a:off x="4903920" y="4005360"/>
            <a:ext cx="3816360" cy="5126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7"/>
          <a:stretch/>
        </p:blipFill>
        <p:spPr>
          <a:xfrm>
            <a:off x="4830840" y="4624560"/>
            <a:ext cx="38163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68609" descr=""/>
          <p:cNvPicPr/>
          <p:nvPr/>
        </p:nvPicPr>
        <p:blipFill>
          <a:blip r:embed="rId1"/>
          <a:stretch/>
        </p:blipFill>
        <p:spPr>
          <a:xfrm>
            <a:off x="247680" y="770040"/>
            <a:ext cx="8648640" cy="59720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2050920" y="378936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4859280" y="378936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7596360" y="3789360"/>
            <a:ext cx="576000" cy="5126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5"/>
          <a:stretch/>
        </p:blipFill>
        <p:spPr>
          <a:xfrm>
            <a:off x="1979640" y="486900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6"/>
          <a:stretch/>
        </p:blipFill>
        <p:spPr>
          <a:xfrm>
            <a:off x="4859280" y="486900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7"/>
          <a:stretch/>
        </p:blipFill>
        <p:spPr>
          <a:xfrm>
            <a:off x="7524720" y="4941720"/>
            <a:ext cx="576360" cy="5130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8"/>
          <a:stretch/>
        </p:blipFill>
        <p:spPr>
          <a:xfrm>
            <a:off x="1979640" y="602136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9"/>
          <a:stretch/>
        </p:blipFill>
        <p:spPr>
          <a:xfrm>
            <a:off x="4788000" y="6021360"/>
            <a:ext cx="576000" cy="5126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0"/>
          <a:stretch/>
        </p:blipFill>
        <p:spPr>
          <a:xfrm>
            <a:off x="7596360" y="6021360"/>
            <a:ext cx="576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23920" y="861840"/>
            <a:ext cx="8696160" cy="5591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835280" y="4724280"/>
            <a:ext cx="2016000" cy="5130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763640" y="5445000"/>
            <a:ext cx="2016360" cy="513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508720" y="4724280"/>
            <a:ext cx="251928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81120" y="923760"/>
            <a:ext cx="7781760" cy="5010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2771640" y="4738680"/>
            <a:ext cx="1368720" cy="51264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59412" descr=""/>
          <p:cNvPicPr/>
          <p:nvPr/>
        </p:nvPicPr>
        <p:blipFill>
          <a:blip r:embed="rId3"/>
          <a:stretch/>
        </p:blipFill>
        <p:spPr>
          <a:xfrm>
            <a:off x="1692360" y="1425600"/>
            <a:ext cx="5638680" cy="19242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4500720" y="5172120"/>
            <a:ext cx="215892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476280" y="1004760"/>
            <a:ext cx="8191440" cy="4848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3492360" y="2824200"/>
            <a:ext cx="4608720" cy="5126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3564000" y="3573360"/>
            <a:ext cx="4608360" cy="5130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3564000" y="4307040"/>
            <a:ext cx="4608360" cy="5126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3564000" y="5084640"/>
            <a:ext cx="460836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576360" y="1271520"/>
            <a:ext cx="7991280" cy="4314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576360" cy="513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1979640" y="1989000"/>
            <a:ext cx="576360" cy="513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5076720" y="2722680"/>
            <a:ext cx="1150920" cy="512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2268360" y="3443400"/>
            <a:ext cx="719280" cy="512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5148360" y="4164120"/>
            <a:ext cx="2952720" cy="5126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3924360" y="4913280"/>
            <a:ext cx="115092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509760" y="1938240"/>
            <a:ext cx="8124480" cy="2981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5292720" y="1944720"/>
            <a:ext cx="1800360" cy="5126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3203640" y="266544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5219640" y="3386160"/>
            <a:ext cx="2089080" cy="5126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3203640" y="4119480"/>
            <a:ext cx="57636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252360" y="1386000"/>
            <a:ext cx="8639280" cy="4086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948360" y="227664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3348000" y="292428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6732720" y="2924280"/>
            <a:ext cx="576000" cy="512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4356000" y="4321080"/>
            <a:ext cx="576360" cy="5130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6286680" y="4335480"/>
            <a:ext cx="576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4276" descr=""/>
          <p:cNvPicPr/>
          <p:nvPr/>
        </p:nvPicPr>
        <p:blipFill>
          <a:blip r:embed="rId1"/>
          <a:stretch/>
        </p:blipFill>
        <p:spPr>
          <a:xfrm>
            <a:off x="657360" y="1852560"/>
            <a:ext cx="7829280" cy="31528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576000" cy="5126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6804000" y="191628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3059280" y="2506680"/>
            <a:ext cx="576000" cy="5126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6804000" y="250668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3419640" y="3875040"/>
            <a:ext cx="1081080" cy="5126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6084720" y="3875040"/>
            <a:ext cx="15116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2231" descr=""/>
          <p:cNvPicPr/>
          <p:nvPr/>
        </p:nvPicPr>
        <p:blipFill>
          <a:blip r:embed="rId1"/>
          <a:stretch/>
        </p:blipFill>
        <p:spPr>
          <a:xfrm>
            <a:off x="399960" y="961920"/>
            <a:ext cx="8344080" cy="49341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3168720" cy="2160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900000" y="4653000"/>
            <a:ext cx="3816360" cy="512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826920" y="5257800"/>
            <a:ext cx="3816360" cy="512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5508720" y="234936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4946760" y="4638600"/>
            <a:ext cx="3816360" cy="513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4873680" y="5243400"/>
            <a:ext cx="381636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18:5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